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7760" y="148320"/>
            <a:ext cx="646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795480"/>
            <a:ext cx="7066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7760" y="148320"/>
            <a:ext cx="646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3448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35280" y="1328400"/>
            <a:ext cx="3448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795480"/>
            <a:ext cx="3448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35280" y="3795480"/>
            <a:ext cx="3448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7760" y="148320"/>
            <a:ext cx="646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22752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3720" y="1328400"/>
            <a:ext cx="22752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3040" y="1328400"/>
            <a:ext cx="22752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795480"/>
            <a:ext cx="22752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3720" y="3795480"/>
            <a:ext cx="22752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3040" y="3795480"/>
            <a:ext cx="22752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7760" y="148320"/>
            <a:ext cx="646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7760" y="148320"/>
            <a:ext cx="646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7760" y="148320"/>
            <a:ext cx="646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3448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35280" y="1328400"/>
            <a:ext cx="3448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7760" y="148320"/>
            <a:ext cx="646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7760" y="230040"/>
            <a:ext cx="64627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7760" y="148320"/>
            <a:ext cx="646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3448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5280" y="1328400"/>
            <a:ext cx="3448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795480"/>
            <a:ext cx="3448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7760" y="148320"/>
            <a:ext cx="646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3448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5280" y="1328400"/>
            <a:ext cx="3448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35280" y="3795480"/>
            <a:ext cx="3448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7760" y="148320"/>
            <a:ext cx="646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3448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5280" y="1328400"/>
            <a:ext cx="3448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795480"/>
            <a:ext cx="7066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9"/>
          <p:cNvSpPr/>
          <p:nvPr/>
        </p:nvSpPr>
        <p:spPr>
          <a:xfrm>
            <a:off x="0" y="871560"/>
            <a:ext cx="9144000" cy="1440"/>
          </a:xfrm>
          <a:prstGeom prst="line">
            <a:avLst/>
          </a:prstGeom>
          <a:ln w="47520">
            <a:solidFill>
              <a:srgbClr val="f7901e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348240" y="6244920"/>
            <a:ext cx="251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UG EXchange 2015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une 7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10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2015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stford, MA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57200" y="6324480"/>
            <a:ext cx="380880" cy="330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14400" y="6324480"/>
            <a:ext cx="254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5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ul Guggenheim &amp; Associates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"/>
          <p:cNvSpPr/>
          <p:nvPr/>
        </p:nvSpPr>
        <p:spPr>
          <a:xfrm>
            <a:off x="3463920" y="6324480"/>
            <a:ext cx="25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OCK the Transaction Enigm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838080" cy="8049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980480" y="0"/>
            <a:ext cx="116352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UnLOCK the Transaction Enigma </a:t>
            </a:r>
            <a:endParaRPr b="1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l Guggenhe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l Guggenheim &amp;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On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48720" y="4896000"/>
            <a:ext cx="1317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819520" y="2028960"/>
            <a:ext cx="35049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On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block is the transaction block since no changes to database are made in containing procedure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each iteration of a transaction block is a trans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Two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trn2.p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each stud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entid sfirstname slast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postalcode ph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each stuchrg of stud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chargeno charg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chargede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chargedate chargeam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 /* for each stuchrg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 /* for each studen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Two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305080" y="2104920"/>
            <a:ext cx="453384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Two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orking with related records, it may be desirable to ensure all changes for related records have been made completely or not at 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especially true if key values are being changed for related rec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example, the out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is the transaction bloc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are not committed to the database for each student and its student charges until after the last charge for that student has been upd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user presses the STOP key (CTRL-BREAK in DOS/Windows, CTRL-C in UNIX) while they are modifying a student or a stuchrg record then all the changes for that student and its charges would be un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Thre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trn3.p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transa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each student with 2 colum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entid gpa balanceam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student except studentid gp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amt addressagg pi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 /* for each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 /* do transaction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Thre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819520" y="2028960"/>
            <a:ext cx="35049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Thre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RANSA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, you can create larger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exampl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RANSA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is the transaction 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are not committed for any student until the last student has been updated, since the transaction is not complete until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transaction block is undone for any reason, none of the changes for any of the students will be committed in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Four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6392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* trn4.p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each stud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 studentid sfirstname slastn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 transa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pdate postalcode ph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. /* do transaction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each stuchrg of student transa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 chargeno chargecode studentchargedescrip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pdate chargedate chargea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. /* for each stuchrg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. /* for each student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Four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305080" y="2104920"/>
            <a:ext cx="453384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321760" y="285840"/>
            <a:ext cx="284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fld id="{8E78A500-459E-4A8C-85F0-C5ADDA7E24E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About PGA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7040" y="1047600"/>
            <a:ext cx="8001000" cy="5143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98000"/>
          </a:bodyPr>
          <a:p>
            <a:pPr marL="478800" indent="-26712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 in Progress since 1984 and training Progress programmers since 19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0" indent="-26712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seven comprehensive Progress courses covering all levels of expertise including - The Keys to OpenEdge®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0" indent="-26712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 of the Sharp Menu System, a database driven, GUI pull-down menu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0" indent="-26712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te Sta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Strategic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0" indent="-26712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ilorP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ultant and Res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0" indent="-26712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ingwer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0" indent="-26712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consulting clients include Chicago Metal Rolled Products, Eastern Municipal Water District, Ford AV, Foxwoods Casino, Montana Metal Products, National Safety Council, Stripco and Stanley Black and Deck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0" indent="-26712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 of the Chicago Area Progress Users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0" indent="-26712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G Challenge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Four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RANSA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can also be used to create smaller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wish to make your transactions smaller when updating related records whose updates are not dependent on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xamp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4.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ou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is not a transaction block, since it contains no updates to the database that aren’t contained within another block with transaction proper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cord modifying the student has been explicitly placed with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RANSA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transaction in the inn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is undone, only the changes for the last student charge are not committed—the changes for the previous student charges were committed on each iteration of the inn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s and Trigger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6400" y="1328400"/>
            <a:ext cx="85438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* trnevt4.p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n choose of bupd 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available student then do with 1 column view-as dialog-box title      "Student Update"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nd  CURRENT student exclusive-loc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 studentid gpa balancea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pdate student except studentid balanceamt gpa addressagg           pi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essage "Do you want to execute the stop statement inside the update trigger?“ view-as alert-box buttons yes-no update cho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choice the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s and Trigger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6680" y="1281240"/>
            <a:ext cx="4924440" cy="4295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309920" y="4348080"/>
            <a:ext cx="399096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s and Trigger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nterface Triggers are used in Event Driven Program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s are a type of procedure block, therefore triggers have the transaction property by defau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statement is the only statement that updates the database in this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statement is located in the “on choose of bupd” trigger block, thus making this trigger a transaction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User Defined Function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unction calculate returns log (input ipstudentid as int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var choice as lo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buffer student for stud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nd student where studentid = ipstudenti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pdate postalco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essage "Do you want to execute the stop statement inside the calculate function?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-as alert-box buttons yes-no update cho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choice the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a then calculate(input studentid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User Defined Function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6440" y="1542960"/>
            <a:ext cx="367632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905440" y="1542960"/>
            <a:ext cx="78120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486160" y="3162240"/>
            <a:ext cx="4171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User Defined Function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fined Functions (UDF) are also a type of procedure blo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UDFs have the transaction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the UDF is the transaction block as it is the only block that contains statements that update the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undo the transaction, the STOP statement must be executed in the UD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bject Method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1800" y="1328400"/>
            <a:ext cx="83822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studenttrans.cl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THOD PUBLIC VOID methodupdate(  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with frame f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ign student.sfirstname slastname postal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THOD PUBLIC VOID methodstop(  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bject Method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33720" y="1986120"/>
            <a:ext cx="30765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bject Oriented Method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riented Methods (OOM) are also a type of procedure blo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OOMs have the transaction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the OOM that contains the assign statement is the transaction block as it is the only block that contains statements that update the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OOM with the STOP statement is executed, the transaction has already been committed and is not un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Roadmap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re locks relea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Locking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Dynamic Object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871200"/>
            <a:ext cx="70660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dynupd.p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while bh:avail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A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ith dow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i = 1 to bh:num-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h = bh:buffer-field(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fh:name format "x(15)" label "Field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fh:data-ty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"decimal" then 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 = fh:buffer-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h:buffer-value =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 /* "decimal"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Dynamic Object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467160" y="2357280"/>
            <a:ext cx="2324160" cy="14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Dynamic Object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the flexible and powerful nature of dynamic buffers, queries and fields, Progress requires that the TRANSACTION keyword be specified on the desired transaction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RANSACTION keyword is missing while attempting to update a buffer-field, the following runtime message is display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14440" y="4357800"/>
            <a:ext cx="3924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Multi-User Record Acces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ssues arise when writing programs intended for use in multi-user environ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cord conten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one user is waiting for records locked by another us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ncurrency contro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maintaining database integrity when records can be accessed by more than one us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 provides an automated record locking system to balance these two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Record Lock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1328760"/>
          <a:ext cx="7182000" cy="4405320"/>
        </p:xfrm>
        <a:graphic>
          <a:graphicData uri="http://schemas.openxmlformats.org/drawingml/2006/table">
            <a:tbl>
              <a:tblPr/>
              <a:tblGrid>
                <a:gridCol w="2152800"/>
                <a:gridCol w="2557440"/>
                <a:gridCol w="2471760"/>
              </a:tblGrid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 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 A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 Can App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-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-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VE-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-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-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-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-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upgraded to EXCLUSIVE-LOCK if record not SHARE-LOCKed by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-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-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VE-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and Wr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-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Acquiring Record Lock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, all record reads except a browse apply a SHARE-LOCK to that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default, a browse applies a NO-LOCK to recor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record is updated, the lock is raised to EXCLUSIVE-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upgrade occurs as the record is written back to the record buffer on the assign portion of a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IG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, the lock is raised to EXCLUSIVE-LOCK only if field values are chan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Acquiring Record Lock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record is updated, the lock is raised to EXCLUSIVE-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upgrade occurs as the record is written back to the record buffer on the assign portion of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, the lock is raised to EXCLUSIVE-LOCK only if field values are 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s, the EXCLUSIVE-LOCK is always raised, since PROGRESS doesn’t know at that point whether data in the screen buffer has been 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Releasing Record Lock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re important question for handling record concurrency is when are record locks relea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nswer this question, we need to determine two thing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scope of the transa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ecord scop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we already know about transactions, how do we determine record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Record Scop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328400"/>
            <a:ext cx="78008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each st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 stcode stdes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each student of st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 studentid sfirstname slastn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pdate postalcode ph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each stuchrg of stud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ge of stuchr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 chargeno stuchrg.chargecode chargedescription chargea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. /* for each stuchrg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. /* for each student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. /* for each stat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05000" y="3429000"/>
            <a:ext cx="7191360" cy="160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"/>
          <p:cNvSpPr/>
          <p:nvPr/>
        </p:nvSpPr>
        <p:spPr>
          <a:xfrm>
            <a:off x="1104840" y="2095560"/>
            <a:ext cx="4591080" cy="33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328760"/>
            <a:ext cx="7800840" cy="467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13287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-State Record Scop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"/>
          <p:cNvSpPr/>
          <p:nvPr/>
        </p:nvSpPr>
        <p:spPr>
          <a:xfrm>
            <a:off x="4286160" y="20955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-Student Record Scop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"/>
          <p:cNvSpPr/>
          <p:nvPr/>
        </p:nvSpPr>
        <p:spPr>
          <a:xfrm>
            <a:off x="4505400" y="338760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-Student Charge Record Scop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Record Scop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rd sco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ection of a program during which a record buffer exists for a given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a record is scoped to the outermost block that references that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cope eff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long the record is held in the record buff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changes to the record are written back to the datab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long record locks are hel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What’s a Transaction?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ansaction is a group of records that must be updated completely or not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actions are designed to ensure data integr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nsactions are scoped to b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fault transaction block is the outermost block with transaction properties that contains statements that modify the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short, the outermost block that updates the datab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Weak Record Scop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"/>
          <p:cNvSpPr/>
          <p:nvPr/>
        </p:nvSpPr>
        <p:spPr>
          <a:xfrm>
            <a:off x="1209600" y="1743120"/>
            <a:ext cx="703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rs2.p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each student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entid sfirstname slastnam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studentid ge 10 then leav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 /* for each student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firstname slastname postalcode studenti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Weak Record Scop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cope is determined at compil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cord h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ak sco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is referenced in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LECT 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cedure, or trigger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 will automatically raise the scope of a weak scoped record to the next outermost containing block if there is a free reference to that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Weak Record Scop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ee refer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reference to a record in certain statements or functions in a containing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statements and functions that count as free references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Weak Record Scop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tatements and functions that don’t count as free referenc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-F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PT-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Strong Record Scop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"/>
          <p:cNvSpPr/>
          <p:nvPr/>
        </p:nvSpPr>
        <p:spPr>
          <a:xfrm>
            <a:off x="1343160" y="1476360"/>
            <a:ext cx="6991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rs5.p *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eat for student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d next student where studentid le 10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play studentid sfirstname slastnam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Strong Record Scop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cord h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ong sco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is referenced in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that have strong scope will not allow a reference to that record in the containing block of that strong scoped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ess a record buffer that has been scoped to a strong scoped block outside that block, reference the record in another block that doesn’t enclose the strong scoped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Mixed Scop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"/>
          <p:cNvSpPr/>
          <p:nvPr/>
        </p:nvSpPr>
        <p:spPr>
          <a:xfrm>
            <a:off x="1517760" y="1314360"/>
            <a:ext cx="624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rs8.p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 for student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 next student where studentid le 10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entid sfirstname slastnam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each student where studentid le 5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firstname slastnam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Mixed Scop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we mentioned earlier, weak and strong scope blocks for the same record can coexist provided the weak scope block does not enclose the strong scope b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has some limited record scope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ed in conjunction with a strong scope block in a procedure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will have record scop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reference exists within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s combined with a weak scope block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have any record scope properties. The reference inside the repeat is then scoped to the enclosing block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Record Scope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328400"/>
            <a:ext cx="77058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compile listing to verify the scope of each record in a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Name       Line Blk. Type   Tran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ransactions\rs8.p    0 Procedure   No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ransactions\rs8.p    3 Repeat      No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ffers: school.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s:  Unna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ransactions\rs8.p    8 For         No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ffers: school.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s:  Unna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Record Lock Duration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448080" y="1224000"/>
            <a:ext cx="19908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What’s a Transaction?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blocks have transaction properties by defaul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’s easier to mention which blocks DON’T have transaction properties by default. The DO blo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the TRANSACTION keyword on the DO block header to add transaction properties to the DO b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ining Procedure, internal procedure, FOR, REPEAT, trigger, method and function blocks all have transaction properties by defau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ride the default transaction block by placing the TRANSACTION keyword on the FOR, REPEAT or DO b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Record Lock Duration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VE-LOCKs are held until the end of the transaction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 holds SHARE-LOCKs until the end of the block to which they are scoped, or until the end of the transaction, whichever block is lar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cord scope is larger than the transaction block, and the record is EXCLUSIVE-LOCKed in the transaction, at the end of the transaction the record lock downgrades to SHARE-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Record Lock Duration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alling another program, the rules for record scope, record locking, and transactions are fo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ally, all record scopes, record locks, and transactions in effect when the subprocedure was called remain in effect throughout the subproced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3188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Record Lock Duration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doe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s the record to disk, if chang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s the record buff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side a transaction, downgrades a SHARE-LOCK to a NOLOCK for a re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in a transaction, acts as a flag which causes the record to go NO-LOCK at the end of a trans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FIND CURRENT record NO-LOCK if you want the record lock to behave like the release statement and if you need the record available in the buff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vent Driven Transaction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"/>
          <p:cNvSpPr/>
          <p:nvPr/>
        </p:nvSpPr>
        <p:spPr>
          <a:xfrm>
            <a:off x="561960" y="1185840"/>
            <a:ext cx="781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trnevt2.p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n choose of bupd do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 buffer studbuf for studen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available student then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with 1 column view-as dialog-box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 studbuf exclusive-lock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tudbuf.studentid = student.studentid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-erro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buf.studentid studbuf.gpa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buf.balanceam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studbuf except studentid balanceamt gpa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ressagg pictur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un dispstu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vent Driven Transaction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"/>
          <p:cNvSpPr/>
          <p:nvPr/>
        </p:nvSpPr>
        <p:spPr>
          <a:xfrm>
            <a:off x="352440" y="1598760"/>
            <a:ext cx="8229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trnevt3.p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n choose of bupd do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available student then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with 1 column view-as dialog-box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  CURRENT student exclusive-lock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entid gpa balanceam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student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cept studentid balanceamt gpa addressagg pictur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un dispstu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 CURRENT student no-lock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vent Driven Transaction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48656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downgrading the lock from an EXCLUSIVE-LOCK to a SHARE-LOCK inside a user interface trigger do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a named bu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find the record no-lock at the end of the trig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O Method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1022400"/>
            <a:ext cx="7637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studentclslock4.cls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STRUCTOR PUBLIC studentclslock4 (  )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able bupd with frame f1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CONSTRUCTO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THOD PUBLIC VOID methodupdate(  )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 student 2 exclusive-lock no-error no-wai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available student the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with frame f1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ent.StudentI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student.sfirstname slastname postalcod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METHO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O Method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6104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Methods have no record scoping prope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reference to a record buffer is scoped to the entire object class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O Method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"/>
          <p:cNvSpPr/>
          <p:nvPr/>
        </p:nvSpPr>
        <p:spPr>
          <a:xfrm>
            <a:off x="284040" y="1057320"/>
            <a:ext cx="7696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studentclslock2.cls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THOD PUBLIC VOID methodupdate(  )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with frame f1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ign student.sfirstname slastname postalcod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lease studen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METHO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3282840"/>
            <a:ext cx="752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studentclslock3.cls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THOD PUBLIC VOID methodupdate(  )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with frame f1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ign student.sfirstname slastname postalcod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 current student no-lock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METHO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O Method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use the same techniques that are applied for user interface trigg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downgrading the lock from an EXCLUSIVE-LOCK to a SHARE-LOCK inside a OO Method statement do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a named buff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find the record no-lock at the end of the OO Method blo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ly, this isn’t the way OO methods should be used, mixing user interface and database update logic. OERA principles should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What’s a Transaction?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s that modify the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LUSIVE-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Deadly Embrac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"/>
          <p:cNvSpPr/>
          <p:nvPr/>
        </p:nvSpPr>
        <p:spPr>
          <a:xfrm>
            <a:off x="3247920" y="1420920"/>
            <a:ext cx="557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EACH student with 3 down title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User 1 " width 90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SPLAY studentid sfirstname slastname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postalcode phon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  /* for each student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"/>
          <p:cNvSpPr/>
          <p:nvPr/>
        </p:nvSpPr>
        <p:spPr>
          <a:xfrm>
            <a:off x="3247920" y="3983040"/>
            <a:ext cx="5410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EACH student with 3 down title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User 2 " width 90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SPLAY studentid sfirstname slastname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postalcode phon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  /* for each student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66560" y="1066680"/>
            <a:ext cx="2638440" cy="2362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57200" y="3638520"/>
            <a:ext cx="2647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Deadly Embrac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52600" y="1328400"/>
            <a:ext cx="80676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wo users read the same record SHARE-LOCK, and then try to update the record to EXCLUSIVE-LOCK, a deadly embrace situation oc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hree ways to resolve a deadly emb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cel the transaction yourself using the STOP k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it for the other person to cancel their trans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procedures to handle locking conflicts more graceful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Avoiding the Deadly Embrac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"/>
          <p:cNvSpPr/>
          <p:nvPr/>
        </p:nvSpPr>
        <p:spPr>
          <a:xfrm>
            <a:off x="447840" y="1324080"/>
            <a:ext cx="8400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nowaitold.p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mpt-for student.studenti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 student using studentid exclusive-lock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-wait no-erro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available student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n update sfirstname slastname postalcod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 locked student then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 "Student record is locked, wait until later"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ew-as alert-box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 "Student number does not exist"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ew-as alert-box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Avoiding the Deadly Embrac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-WAIT keyword prevents deadly embraces from occurring on FIND and GET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-WAIT causes the FIND or GET to return control to the procedure instead of the default behavior message of “Record in use by us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r-n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ty-nam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gical LOCKED function may be used after the NO-WAIT keyword is used to determine is record is lock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Batch Program Locking Issue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"/>
          <p:cNvSpPr/>
          <p:nvPr/>
        </p:nvSpPr>
        <p:spPr>
          <a:xfrm>
            <a:off x="476280" y="1128600"/>
            <a:ext cx="79437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 next student exclusive-lock no-wait no-erro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available student then do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entid sfirstname slastname balanceam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amt = balanceamt * 1.1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use 1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balanceam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 locked student then do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 next student no-lock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entid sfirstname slastname balanceam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or display messages studentid sfirstname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astname balanceam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 "student was locked!" view-as alert-box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leav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Batch Program Locking Issue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pdating records in batch, use REPEAT and FIND NEXT instead of FOR EACH so the NO-WAIT keyword can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record is locked, the same record may be found using NO-LOCK since Progress maintains the index cursor in the record 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SE LEAVE statement is necessary since the NO-ERROR on the FIND NEXT suppresses the ENDKEY condition that occurs when a FIND NEXT is attempted after the last record is 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Using STOP-AFTER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"/>
          <p:cNvSpPr/>
          <p:nvPr/>
        </p:nvSpPr>
        <p:spPr>
          <a:xfrm>
            <a:off x="542880" y="1598760"/>
            <a:ext cx="8220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bchupd2.p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 on stop undo, leave stop-after 4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 next student exclusive-lock /* no-wait */ no-erro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available student then do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entid sfirstname slastname balanceam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amt = balanceamt * 1.1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use 1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balanceam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leav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"Program Ended"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Using STOP-AFTER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to the no-wait is the STOP-AFTER phrase that may be used on a FOR, REPEAT or DO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OP condition will be raised after n seconds specified on the STOP-AFTER phr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OP-AFTER is also useful for preventing dynamic queries from running too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8321760" y="285840"/>
            <a:ext cx="284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fld id="{0A1A3D05-48BC-40D8-8F1D-DC1497DBC761}" type="slidenum">
              <a:rPr b="1" lang="en-US" sz="14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952560"/>
            <a:ext cx="8334360" cy="51530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marL="488880" indent="-272880">
              <a:spcBef>
                <a:spcPts val="2001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s and Record Scope are related to bloc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2728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SIVE-LOCKs are held until the end of the transaction b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2728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 holds SHARE-LOCKs until the end of the block to which they are scoped, or until the end of the transaction, whichever block is lar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2728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downgrading the lock from an EXCLUSIVE-LOCK to a SHARE-LOCK after a transaction is comple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2728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named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2728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find the record NO-LOCK at the end of the transaction b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2728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27240" y="-360"/>
            <a:ext cx="2766960" cy="7858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Question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328760"/>
            <a:ext cx="7066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108240" y="1228680"/>
            <a:ext cx="27129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Fundamental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gress client session can have at most one active trans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teration of a transaction block is considered a complete trans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Progress has committed a transaction, it cannot be un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Fundamental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events a transaction from compl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stro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-C in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-BREAK in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not found in run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 a database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On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52600" y="1328400"/>
            <a:ext cx="82864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trn1.p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each student with 2 colum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entid gpa balanceam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stu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cept studentid gpa balanceamt addressagg pi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 /* for each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0:10:21Z</dcterms:created>
  <dc:creator>Barbara Ware</dc:creator>
  <dc:description/>
  <dc:language>en-US</dc:language>
  <cp:lastModifiedBy>paul</cp:lastModifiedBy>
  <dcterms:modified xsi:type="dcterms:W3CDTF">2015-06-06T02:44:20Z</dcterms:modified>
  <cp:revision>273</cp:revision>
  <dc:subject/>
  <dc:title>Slide 1</dc:title>
</cp:coreProperties>
</file>