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18.wmf" ContentType="image/x-wmf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7760" y="148320"/>
            <a:ext cx="646272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795480"/>
            <a:ext cx="70660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7760" y="148320"/>
            <a:ext cx="646272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34480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35280" y="1328400"/>
            <a:ext cx="34480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795480"/>
            <a:ext cx="34480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35280" y="3795480"/>
            <a:ext cx="34480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7760" y="148320"/>
            <a:ext cx="646272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227520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3720" y="1328400"/>
            <a:ext cx="227520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3040" y="1328400"/>
            <a:ext cx="227520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795480"/>
            <a:ext cx="227520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3720" y="3795480"/>
            <a:ext cx="227520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3040" y="3795480"/>
            <a:ext cx="227520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7760" y="148320"/>
            <a:ext cx="646272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7760" y="148320"/>
            <a:ext cx="646272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7760" y="148320"/>
            <a:ext cx="646272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3448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35280" y="1328400"/>
            <a:ext cx="3448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7760" y="148320"/>
            <a:ext cx="646272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17760" y="230040"/>
            <a:ext cx="64627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7760" y="148320"/>
            <a:ext cx="646272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34480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35280" y="1328400"/>
            <a:ext cx="3448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795480"/>
            <a:ext cx="34480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7760" y="148320"/>
            <a:ext cx="646272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3448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35280" y="1328400"/>
            <a:ext cx="34480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35280" y="3795480"/>
            <a:ext cx="34480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7760" y="148320"/>
            <a:ext cx="646272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34480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35280" y="1328400"/>
            <a:ext cx="34480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795480"/>
            <a:ext cx="70660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9"/>
          <p:cNvSpPr/>
          <p:nvPr/>
        </p:nvSpPr>
        <p:spPr>
          <a:xfrm>
            <a:off x="0" y="871560"/>
            <a:ext cx="9144000" cy="1440"/>
          </a:xfrm>
          <a:prstGeom prst="line">
            <a:avLst/>
          </a:prstGeom>
          <a:ln w="47520">
            <a:solidFill>
              <a:srgbClr val="f7901e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50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348240" y="6244920"/>
            <a:ext cx="2516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UG EXchange 2015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une 7</a:t>
            </a:r>
            <a:r>
              <a:rPr b="0" lang="en-US" sz="1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– 10</a:t>
            </a:r>
            <a:r>
              <a:rPr b="0" lang="en-US" sz="1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2015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estford, MA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457200" y="6324480"/>
            <a:ext cx="380880" cy="3304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914400" y="6324480"/>
            <a:ext cx="2549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5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ul Guggenheim &amp; Associates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"/>
          <p:cNvSpPr/>
          <p:nvPr/>
        </p:nvSpPr>
        <p:spPr>
          <a:xfrm>
            <a:off x="3463920" y="6324480"/>
            <a:ext cx="254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OCK the Transaction Enigm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838080" cy="80496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7980480" y="0"/>
            <a:ext cx="1163520" cy="80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UnLOCK the Transaction Enigma </a:t>
            </a:r>
            <a:endParaRPr b="1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ul Guggenhe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ul Guggenheim &amp; Associ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Transaction Example One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848720" y="4896000"/>
            <a:ext cx="1317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819520" y="2028960"/>
            <a:ext cx="350496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Transaction Example One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block is the transaction block since no changes to database are made in containing procedure b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that each iteration of a transaction block is a trans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Transaction Example Two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trn2.p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each stud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splay studentid sfirstname slastn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postalcode ph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each stuchrg of stud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splay chargeno charge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chargedescri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chargedate chargeam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. /* for each stuchrg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. /* for each student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Transaction Example Two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305080" y="2104920"/>
            <a:ext cx="453384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Transaction Example Two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working with related records, it may be desirable to ensure all changes for related records have been made completely or not at 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especially true if key values are being changed for related rec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example, the out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 is the transaction bloc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are not committed to the database for each student and its student charges until after the last charge for that student has been upd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user presses the STOP key (CTRL-BREAK in DOS/Windows, CTRL-C in UNIX) while they are modifying a student or a stuchrg record then all the changes for that student and its charges would be und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Transaction Example Three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trn3.p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 transac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each student with 2 colum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splay studentid gpa balanceam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student except studentid gpa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lanceamt addressagg pi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. /* for each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. /* do transaction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Transaction Example Three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819520" y="2028960"/>
            <a:ext cx="350496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Transaction Example Three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using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TRANSA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, you can create larger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example,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TRANSA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is the transaction blo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are not committed for any student until the last student has been updated, since the transaction is not complete until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transaction block is undone for any reason, none of the changes for any of the students will be committed in the data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Transaction Example Four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63920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* trn4.p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each studen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play studentid sfirstname slastn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 transac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pdate postalcode pho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. /* do transaction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each stuchrg of student transac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play chargeno chargecode studentchargedescrip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pdate chargedate chargeam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. /* for each stuchrg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. /* for each student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Transaction Example Four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305080" y="2104920"/>
            <a:ext cx="453384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8321760" y="285840"/>
            <a:ext cx="284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fld id="{F7BC5ED2-FF8B-413B-8D58-8CA7F3D0B334}" type="slidenum">
              <a:rPr b="1" lang="en-US" sz="1400" spc="-1" strike="noStrike">
                <a:solidFill>
                  <a:srgbClr val="ffffff"/>
                </a:solidFill>
                <a:latin typeface="Arial"/>
                <a:ea typeface="ヒラギノ角ゴ ProN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About PGA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17040" y="1047600"/>
            <a:ext cx="8001000" cy="514368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98000"/>
          </a:bodyPr>
          <a:p>
            <a:pPr marL="478800" indent="-26712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 in Progress since 1984 and training Progress programmers since 19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8800" indent="-26712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ed seven comprehensive Progress courses covering all levels of expertise including - The Keys to OpenEdge®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8800" indent="-26712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 of the Sharp Menu System, a database driven, GUI pull-down menu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8800" indent="-26712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ite Sta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ware Strategic Part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8800" indent="-26712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ilorP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sultant and Rese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8800" indent="-26712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ultingwer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art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8800" indent="-26712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jor consulting clients include Chicago Metal Rolled Products, Eastern Municipal Water District, Ford AV, Foxwoods Casino, Montana Metal Products, National Safety Council, Stripco and Stanley Black and Deck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8800" indent="-26712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d of the Chicago Area Progress Users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8800" indent="-26712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G Challenge Committ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Transaction Example Four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TRANSA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can also be used to create smaller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ay wish to make your transactions smaller when updating related records whose updates are not dependent on each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examp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n4.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 out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is not a transaction block, since it contains no updates to the database that aren’t contained within another block with transaction proper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cord modifying the student has been explicitly placed withi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TRANSA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transaction in the inn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is undone, only the changes for the last student charge are not committed—the changes for the previous student charges were committed on each iteration of the inn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Transactions and Triggers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66400" y="1328400"/>
            <a:ext cx="85438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* trnevt4.p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n choose of bupd 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available student then do with 1 column view-as dialog-box title      "Student Update"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ind  CURRENT student exclusive-lock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play studentid gpa balanceam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pdate student except studentid balanceamt gpa addressagg           pictu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essage "Do you want to execute the stop statement inside the update trigger?“ view-as alert-box buttons yes-no update choi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choice then sto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Transactions and Triggers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66680" y="1281240"/>
            <a:ext cx="4924440" cy="4295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309920" y="4348080"/>
            <a:ext cx="399096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Transactions and Triggers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Interface Triggers are used in Event Driven Programm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ggers are a type of procedure block, therefore triggers have the transaction property by defaul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statement is the only statement that updates the database in this proced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statement is located in the “on choose of bupd” trigger block, thus making this trigger a transaction b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User Defined Functions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unction calculate returns log (input ipstudentid as int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 var choice as lo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 buffer student for stud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ind student where studentid = ipstudenti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pdate postalco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essage "Do you want to execute the stop statement inside the calculate function?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-as alert-box buttons yes-no update choi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choice then sto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a then calculate(input studentid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User Defined Functions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76440" y="1542960"/>
            <a:ext cx="3676320" cy="1371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905440" y="1542960"/>
            <a:ext cx="781200" cy="533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486160" y="3162240"/>
            <a:ext cx="4171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User Defined Functions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Defined Functions (UDF) are also a type of procedure bloc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UDFs have the transaction prope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example, the UDF is the transaction block as it is the only block that contains statements that update the data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undo the transaction, the STOP statement must be executed in the UD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Object Methods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1800" y="1328400"/>
            <a:ext cx="838224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studenttrans.cls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THOD PUBLIC VOID methodupdate(  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 with frame f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sign student.sfirstname slastname postal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THOD PUBLIC VOID methodstop(  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Object Methods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033720" y="1986120"/>
            <a:ext cx="307656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Object Oriented Methods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Oriented Methods (OOM) are also a type of procedure bloc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OOMs have the transaction prope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example, the OOM that contains the assign statement is the transaction block as it is the only block that contains statements that update the data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OOM with the STOP statement is executed, the transaction has already been committed and is not und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Roadmap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ction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re locks relea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Locking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Dynamic Objects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871200"/>
            <a:ext cx="706608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dynupd.p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 while bh:availa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ANSAC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with dow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 i = 1 to bh:num-fiel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h = bh:buffer-field(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splay fh:name format "x(15)" label "Field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se fh:data-typ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n "decimal" then 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 = fh:buffer-va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h:buffer-value = 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. /* "decimal"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Dynamic Objects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467160" y="2357280"/>
            <a:ext cx="2324160" cy="14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Dynamic Objects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of the flexible and powerful nature of dynamic buffers, queries and fields, Progress requires that the TRANSACTION keyword be specified on the desired transaction b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RANSACTION keyword is missing while attempting to update a buffer-field, the following runtime message is display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14440" y="4357800"/>
            <a:ext cx="392436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Multi-User Record Access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issues arise when writing programs intended for use in multi-user environ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cord contentio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 one user is waiting for records locked by another us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ncurrency control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 maintaining database integrity when records can be accessed by more than one us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ESS provides an automated record locking system to balance these two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Record Locks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914400" y="1328760"/>
          <a:ext cx="7182000" cy="4405320"/>
        </p:xfrm>
        <a:graphic>
          <a:graphicData uri="http://schemas.openxmlformats.org/drawingml/2006/table">
            <a:tbl>
              <a:tblPr/>
              <a:tblGrid>
                <a:gridCol w="2152800"/>
                <a:gridCol w="2557440"/>
                <a:gridCol w="2471760"/>
              </a:tblGrid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 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 Ac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s Can App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-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-on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LUSIVE-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RE-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-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RE-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-on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be upgraded to EXCLUSIVE-LOCK if record not SHARE-LOCKed by ot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RE-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-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LUSIVE-LO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and Wr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-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Acquiring Record Locks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default, all record reads except a browse apply a SHARE-LOCK to that rec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 default, a browse applies a NO-LOCK to recor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record is updated, the lock is raised to EXCLUSIVE-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upgrade occurs as the record is written back to the record buffer on the assign portion of an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IG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SER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5000" indent="-3492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DA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ment, the lock is raised to EXCLUSIVE-LOCK only if field values are chang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Acquiring Record Locks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record is updated, the lock is raised to EXCLUSIVE-LO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upgrade occurs as the record is written back to the record buffer on the assign portion of 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IG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5000" indent="-3492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ment, the lock is raised to EXCLUSIVE-LOCK only if field values are chang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5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5000" indent="-3492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IG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ments, the EXCLUSIVE-LOCK is always raised, since PROGRESS doesn’t know at that point whether data in the screen buffer has been chang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Releasing Record Locks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re important question for handling record concurrency is when are record locks relea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answer this question, we need to determine two thing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5000" indent="-3492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scope of the transac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5000" indent="-3492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record scop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we already know about transactions, how do we determine record sc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Record Scope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328400"/>
            <a:ext cx="780084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each sta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play stcode stdes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each student of sta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play studentid sfirstname slastn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pdate postalcode pho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each stuchrg of stud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ge of stuchr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play chargeno stuchrg.chargecode chargedescription chargeam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. /* for each stuchrg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. /* for each student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. /* for each stat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05000" y="3429000"/>
            <a:ext cx="7191360" cy="160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"/>
          <p:cNvSpPr/>
          <p:nvPr/>
        </p:nvSpPr>
        <p:spPr>
          <a:xfrm>
            <a:off x="1104840" y="2095560"/>
            <a:ext cx="4591080" cy="33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1328760"/>
            <a:ext cx="7800840" cy="467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"/>
          <p:cNvSpPr/>
          <p:nvPr/>
        </p:nvSpPr>
        <p:spPr>
          <a:xfrm>
            <a:off x="2857680" y="1328760"/>
            <a:ext cx="28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-State Record Scop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"/>
          <p:cNvSpPr/>
          <p:nvPr/>
        </p:nvSpPr>
        <p:spPr>
          <a:xfrm>
            <a:off x="4286160" y="209556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-Student Record Scop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"/>
          <p:cNvSpPr/>
          <p:nvPr/>
        </p:nvSpPr>
        <p:spPr>
          <a:xfrm>
            <a:off x="4505400" y="3387600"/>
            <a:ext cx="37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-Student Charge Record Scop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Record Scope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cord scop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section of a program during which a record buffer exists for a given rec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, a record is scoped to the outermost block that references that rec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scope eff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long the record is held in the record buff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changes to the record are written back to the datab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long record locks are hel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What’s a Transaction?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ransaction is a group of records that must be updated completely or not at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actions are designed to ensure data integr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nsactions are scoped to blo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fault transaction block is the outermost block with transaction properties that contains statements that modify the data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short, the outermost block that updates the datab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Weak Record Scope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"/>
          <p:cNvSpPr/>
          <p:nvPr/>
        </p:nvSpPr>
        <p:spPr>
          <a:xfrm>
            <a:off x="1209600" y="1743120"/>
            <a:ext cx="7039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rs2.p */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each student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splay studentid sfirstname slastname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studentid ge 10 then leave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. /* for each student */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splay sfirstname slastname postalcode studentid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Weak Record Scope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Scope is determined at compil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cord h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eak scop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is referenced in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A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LECT EA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rocedure, or trigger b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ESS will automatically raise the scope of a weak scoped record to the next outermost containing block if there is a free reference to that rec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Weak Record Scope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ree refere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reference to a record in certain statements or functions in a containing b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statements and functions that count as free references a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5000" indent="-3492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5000" indent="-3492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5000" indent="-3492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5000" indent="-3492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Weak Record Scope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statements and functions that don’t count as free reference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-F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MPT-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Strong Record Scope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"/>
          <p:cNvSpPr/>
          <p:nvPr/>
        </p:nvSpPr>
        <p:spPr>
          <a:xfrm>
            <a:off x="1343160" y="1476360"/>
            <a:ext cx="6991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* rs5.p */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peat for student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nd next student where studentid le 10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splay studentid sfirstname slastname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Strong Record Scope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cord h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ong scop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is referenced in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EAT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s that have strong scope will not allow a reference to that record in the containing block of that strong scoped b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ccess a record buffer that has been scoped to a strong scoped block outside that block, reference the record in another block that doesn’t enclose the strong scoped b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Mixed Scope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"/>
          <p:cNvSpPr/>
          <p:nvPr/>
        </p:nvSpPr>
        <p:spPr>
          <a:xfrm>
            <a:off x="1517760" y="1314360"/>
            <a:ext cx="6245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rs8.p */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 for student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nd next student where studentid le 10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splay studentid sfirstname slastname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each student where studentid le 5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splay sfirstname slastname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Mixed Scope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we mentioned earlier, weak and strong scope blocks for the same record can coexist provided the weak scope block does not enclose the strong scope blo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EA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 has some limited record scope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used in conjunction with a strong scope block in a procedure,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EA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 will have record scop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reference exists within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EA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s combined with a weak scope block,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EA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have any record scope properties. The reference inside the repeat is then scoped to the enclosing block of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E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Record Scope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040" y="1328400"/>
            <a:ext cx="770580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compile listing to verify the scope of each record in a proced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 Name       Line Blk. Type   Tran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ransactions\rs8.p    0 Procedure   No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ransactions\rs8.p    3 Repeat      No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ffers: school.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s:  Unna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ransactions\rs8.p    8 For         No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ffers: school.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s:  Unna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Record Lock Duration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448080" y="1224000"/>
            <a:ext cx="199080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What’s a Transaction?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blocks have transaction properties by defaul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’s easier to mention which blocks DON’T have transaction properties by default. The DO bloc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5000" indent="-3492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 the TRANSACTION keyword on the DO block header to add transaction properties to the DO blo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aining Procedure, internal procedure, FOR, REPEAT, trigger, method and function blocks all have transaction properties by defaul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5000" indent="-3492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ride the default transaction block by placing the TRANSACTION keyword on the FOR, REPEAT or DO blo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Record Lock Duration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LUSIVE-LOCKs are held until the end of the transaction b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ESS holds SHARE-LOCKs until the end of the block to which they are scoped, or until the end of the transaction, whichever block is larg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record scope is larger than the transaction block, and the record is EXCLUSIVE-LOCKed in the transaction, at the end of the transaction the record lock downgrades to SHARE-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Record Lock Duration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alling another program, the rules for record scope, record locking, and transactions are foll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ifically, all record scopes, record locks, and transactions in effect when the subprocedure was called remain in effect throughout the subproced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3188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Record Lock Duration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 does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ites the record to disk, if chang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ears the record buff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side a transaction, downgrades a SHARE-LOCK to a NOLOCK for a reco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in a transaction, acts as a flag which causes the record to go NO-LOCK at the end of a transa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FIND CURRENT record NO-LOCK if you want the record lock to behave like the release statement and if you need the record available in the buff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Event Driven Transactions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"/>
          <p:cNvSpPr/>
          <p:nvPr/>
        </p:nvSpPr>
        <p:spPr>
          <a:xfrm>
            <a:off x="561960" y="1185840"/>
            <a:ext cx="7819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trnevt2.p */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n choose of bupd do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f buffer studbuf for student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available student then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 with 1 column view-as dialog-box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nd studbuf exclusive-lock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re studbuf.studentid = student.studentid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-error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splay studbuf.studentid studbuf.gpa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buf.balanceamt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studbuf except studentid balanceamt gpa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ressagg picture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un dispstud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Event Driven Transactions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"/>
          <p:cNvSpPr/>
          <p:nvPr/>
        </p:nvSpPr>
        <p:spPr>
          <a:xfrm>
            <a:off x="352440" y="1598760"/>
            <a:ext cx="8229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trnevt3.p */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n choose of bupd do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available student then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 with 1 column view-as dialog-box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nd  CURRENT student exclusive-lock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splay studentid gpa balanceamt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student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cept studentid balanceamt gpa addressagg picture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un dispstud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nd CURRENT student no-lock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Event Driven Transactions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48656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void downgrading the lock from an EXCLUSIVE-LOCK to a SHARE-LOCK inside a user interface trigger do ei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 a named buff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-find the record no-lock at the end of the trig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OO Methods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"/>
          <p:cNvSpPr/>
          <p:nvPr/>
        </p:nvSpPr>
        <p:spPr>
          <a:xfrm>
            <a:off x="343080" y="1022400"/>
            <a:ext cx="7637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studentclslock4.cls */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STRUCTOR PUBLIC studentclslock4 (  )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able bupd with frame f1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 CONSTRUCTOR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THOD PUBLIC VOID methodupdate(  )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nd student 2 exclusive-lock no-error no-wait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available student the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 with frame f1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splay student.StudentID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student.sfirstname slastname postalcode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 METHOD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OO Methods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61040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Methods have no record scoping proper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reference to a record buffer is scoped to the entire object class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OO Methods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"/>
          <p:cNvSpPr/>
          <p:nvPr/>
        </p:nvSpPr>
        <p:spPr>
          <a:xfrm>
            <a:off x="284040" y="1057320"/>
            <a:ext cx="7696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studentclslock2.cls */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THOD PUBLIC VOID methodupdate(  )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 with frame f1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sign student.sfirstname slastname postalcode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lease student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 METHOD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3282840"/>
            <a:ext cx="752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studentclslock3.cls */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THOD PUBLIC VOID methodupdate(  )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 with frame f1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sign student.sfirstname slastname postalcode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nd current student no-lock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 METHOD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OO Methods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use the same techniques that are applied for user interface trigg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void downgrading the lock from an EXCLUSIVE-LOCK to a SHARE-LOCK inside a OO Method statement do ei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 a named buff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-find the record no-lock at the end of the OO Method bloc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ly, this isn’t the way OO methods should be used, mixing user interface and database update logic. OERA principles should be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What’s a Transaction?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s that modify the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E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s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CLUSIVE-L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Deadly Embrace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"/>
          <p:cNvSpPr/>
          <p:nvPr/>
        </p:nvSpPr>
        <p:spPr>
          <a:xfrm>
            <a:off x="3247920" y="1420920"/>
            <a:ext cx="557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EACH student with 3 down title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 User 1 " width 90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ISPLAY studentid sfirstname slastname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postalcode phone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.  /* for each student */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"/>
          <p:cNvSpPr/>
          <p:nvPr/>
        </p:nvSpPr>
        <p:spPr>
          <a:xfrm>
            <a:off x="3247920" y="3983040"/>
            <a:ext cx="5410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EACH student with 3 down title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 User 2 " width 90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ISPLAY studentid sfirstname slastname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postalcode phone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.  /* for each student */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66560" y="1066680"/>
            <a:ext cx="2638440" cy="23623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57200" y="3638520"/>
            <a:ext cx="26478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Deadly Embrace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52600" y="1328400"/>
            <a:ext cx="806760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wo users read the same record SHARE-LOCK, and then try to update the record to EXCLUSIVE-LOCK, a deadly embrace situation occ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hree ways to resolve a deadly emb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cel the transaction yourself using the STOP ke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it for the other person to cancel their transa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de procedures to handle locking conflicts more graceful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Avoiding the Deadly Embrace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"/>
          <p:cNvSpPr/>
          <p:nvPr/>
        </p:nvSpPr>
        <p:spPr>
          <a:xfrm>
            <a:off x="447840" y="1324080"/>
            <a:ext cx="8400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nowaitold.p */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ompt-for student.studentid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nd student using studentid exclusive-lock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-wait no-error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available student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n update sfirstname slastname postalcode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 if locked student then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 "Student record is locked, wait until later"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iew-as alert-box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 "Student number does not exist"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iew-as alert-box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Avoiding the Deadly Embrace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O-WAIT keyword prevents deadly embraces from occurring on FIND and GET stat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-WAIT causes the FIND or GET to return control to the procedure instead of the default behavior message of “Record in use by us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ser-na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t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ty-nam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ogical LOCKED function may be used after the NO-WAIT keyword is used to determine is record is lock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Batch Program Locking Issues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"/>
          <p:cNvSpPr/>
          <p:nvPr/>
        </p:nvSpPr>
        <p:spPr>
          <a:xfrm>
            <a:off x="476280" y="1128600"/>
            <a:ext cx="79437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nd next student exclusive-lock no-wait no-error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available student then do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splay studentid sfirstname slastname balanceamt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lanceamt = balanceamt * 1.1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use 1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splay balanceamt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 if locked student then do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nd next student no-lock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splay studentid sfirstname slastname balanceamt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lor display messages studentid sfirstname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astname balanceamt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 "student was locked!" view-as alert-box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 leave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Batch Program Locking Issues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updating records in batch, use REPEAT and FIND NEXT instead of FOR EACH so the NO-WAIT keyword can be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record is locked, the same record may be found using NO-LOCK since Progress maintains the index cursor in the record sc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SE LEAVE statement is necessary since the NO-ERROR on the FIND NEXT suppresses the ENDKEY condition that occurs when a FIND NEXT is attempted after the last record is r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Using STOP-AFTER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"/>
          <p:cNvSpPr/>
          <p:nvPr/>
        </p:nvSpPr>
        <p:spPr>
          <a:xfrm>
            <a:off x="542880" y="1598760"/>
            <a:ext cx="8220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bchupd2.p */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 on stop undo, leave stop-after 4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nd next student exclusive-lock /* no-wait */ no-error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available student then do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splay studentid sfirstname slastname balanceamt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lanceamt = balanceamt * 1.1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use 1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splay balanceamt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 leave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splay "Program Ended"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Using STOP-AFTER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lternative to the no-wait is the STOP-AFTER phrase that may be used on a FOR, REPEAT or DO b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OP condition will be raised after n seconds specified on the STOP-AFTER phr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OP-AFTER is also useful for preventing dynamic queries from running too l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3"/>
          <p:cNvSpPr/>
          <p:nvPr/>
        </p:nvSpPr>
        <p:spPr>
          <a:xfrm>
            <a:off x="8321760" y="285840"/>
            <a:ext cx="284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fld id="{B61B26AF-B4D1-4732-A685-0C2210967C44}" type="slidenum">
              <a:rPr b="1" lang="en-US" sz="1400" spc="-1" strike="noStrike">
                <a:solidFill>
                  <a:srgbClr val="ffffff"/>
                </a:solidFill>
                <a:latin typeface="Arial"/>
                <a:ea typeface="ヒラギノ角ゴ ProN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952560"/>
            <a:ext cx="8334360" cy="51530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marL="488880" indent="-272880">
              <a:spcBef>
                <a:spcPts val="2001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s and Record Scope are related to block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2728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LUSIVE-LOCKs are held until the end of the transaction blo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2728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ESS holds SHARE-LOCKs until the end of the block to which they are scoped, or until the end of the transaction, whichever block is larg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2728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downgrading the lock from an EXCLUSIVE-LOCK to a SHARE-LOCK after a transaction is comple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2728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a named buff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2728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find the record NO-LOCK at the end of the transaction blo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2728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27240" y="-360"/>
            <a:ext cx="2766960" cy="78588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Summary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Questions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328760"/>
            <a:ext cx="7066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108240" y="1228680"/>
            <a:ext cx="271296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Transaction Fundamentals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gress client session can have at most one active trans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iteration of a transaction block is considered a complete trans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Progress has committed a transaction, it cannot be und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Transaction Fundamentals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328400"/>
            <a:ext cx="7066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prevents a transaction from comple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5000" indent="-3492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ystrok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5000" indent="-3492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-C in 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5000" indent="-3492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-BREAK in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5000" indent="-3492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 not found in run stat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5000" indent="-3492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e a database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7760" y="230040"/>
            <a:ext cx="646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Transaction Example One</a:t>
            </a:r>
            <a:endParaRPr b="1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52600" y="1328400"/>
            <a:ext cx="82864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* trn1.p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each student with 2 colum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splay studentid gpa balanceam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stud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cept studentid gpa balanceamt addressagg pi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. /* for each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20:10:21Z</dcterms:created>
  <dc:creator>Barbara Ware</dc:creator>
  <dc:description/>
  <dc:language>en-US</dc:language>
  <cp:lastModifiedBy>paul</cp:lastModifiedBy>
  <dcterms:modified xsi:type="dcterms:W3CDTF">2015-06-06T02:44:20Z</dcterms:modified>
  <cp:revision>273</cp:revision>
  <dc:subject/>
  <dc:title>Slide 1</dc:title>
</cp:coreProperties>
</file>